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AE206-597E-4739-96C4-CECF29603E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C8F6-06A9-4A82-8A02-69F01333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7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8035-66A0-4D2B-AFA3-FB1545DA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148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C270-BCC4-4AC3-928A-F5A432F4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148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148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4537-85E5-4AA1-B473-BB8E4C4C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1E0-7791-4A77-BE09-02A879B5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A22-CDBD-40D1-A1D4-4C3D4061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B7D7-1110-4790-93B2-68379C83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614-2372-49E8-BE3A-227551CD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103-B44F-4716-8D5C-20AD9111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C45-D74F-402A-8351-AEAFE381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148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D71A-7BE4-46A3-AFD4-EA3C4C3C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7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777A-213F-49A0-92AE-683CC5C1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DB868-D22D-4260-A410-8A08065F7E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lores1@mit.edu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Trust-Building Mechanism in the Me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07.08.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remy Flores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flores1@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rge de la Ga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ert Falc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vin Kel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Trust Model Based Cooperation Enforcement Mechanism in Mesh Network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oses PID-like trus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st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de is deemed untrustworthy, add to bla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change parameters to better fit network and desired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efficient than blacklist-sharing models (zero network overhead, no list comparing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uld be efficient enough for X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th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oritizing Packet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ead of blacklist, use node's trust score to determine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er priority in packet forwarding means faster, sustained bandwid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sufficiently low score, actively malicious, and low overall traffic, temporarily blacklist ( t ~ 1/score 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lso using blacklist sharing, false positives are only a small problem for otherwise-trustworthy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rther incentive to play 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th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ust Build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 new node is encountered, initially has a low trust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the node performs dutifully, trust score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od deeds” &lt;==&gt; Reward (bandwidth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 address sw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legit user wants to switch identities, no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witching to bypass blacklists, still must play nice to gain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ts in kernel: works with Cereb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stomiz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w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desteps unique identification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ak pen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be effectively malicious on a widespread level, one must first “do good” to become tru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ore is asymmetric towards untrustworthy, so more “good” done than “bad” over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ct: flores1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9920" y="33804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ne Laptop Per Child -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23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mited processing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D Geode, ~433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6 MB 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mited energy consu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arse access to electricity for battery rechar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-sourc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s can alter any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osed-source wireless card firm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implement protocols in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9920" y="33804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ne Laptop Per Child -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9920" y="1868400"/>
            <a:ext cx="90723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ly massive network top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beral software philosophy: “Let kids explo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implement overly-restrictive security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 spoofing entirely feasible, even encour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y unusual networking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central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 addresses not tied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identities all over th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uce Wayne”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owed/encouraged to spoof MAC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provide other ID of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concerns are more typ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int-to-point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mper-resistance for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behaving p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 is direct result of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save 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er-lightweight devices (~433 Mhz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actical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regard MAC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kay for routing / 802.11s / AO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be spoofed, imperso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sic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ting a new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 simple as generating new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oose new MAC address at sa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ding a general-purpos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MAC &amp;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d public key with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blic key effectively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sic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int-to-point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add encryption on top of MA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havior e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ganic/natural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orary blackli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